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4A02-C86F-4399-863A-3D813174554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1D82-5782-45EB-BC54-845CC9BBB3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6FE6-D6F6-4AA7-994A-33E9FC9ECC0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BE12-BED5-4061-BB80-E183068A11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181D-1DC5-49DE-8188-5877499B6A8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C203-D8DB-4973-8015-288ECC224C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C3BF-34E5-4144-A2BD-DA20C905286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9ED7-1816-4396-95C5-F9E4B438054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049-1924-4BB6-934D-97465A98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665-10C6-4703-8AC8-F1B5A8F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E02-BC85-487F-A009-2536F1F2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822-FCA4-4B4B-8FBB-65C8C1FA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4299-9CFD-4C33-8D03-D47A8E53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DCFC-499D-4DF8-AECB-1526F97D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F2E7-7D33-4D9B-9DB9-93C00439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30F7-7A44-4F04-8816-FC2D527A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2BAA-B779-4262-87A6-6D88C715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8BCA-058B-40B2-A543-CB1E9EF3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15C9-0E60-4C1E-AAFB-AFD497FE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E2E-067A-4CAD-A61A-688E95CA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AF77-1BA1-4049-BA62-9D6B071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1666-58F7-4C05-A3BC-6F630595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57A8-19F0-464E-BE3B-4670B5F9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0E7-30D8-44A4-A532-475FF198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B4A2-921C-4312-8106-1E33CCC8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D4B7-68C8-4E6F-8B7C-C8B6D389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953E-098E-47B0-A73F-9A3F7B73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E492-CC7A-412D-ABF9-B70F5110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A707-FA3E-4052-84D8-69979FCB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5D61-D105-44D7-A211-B30E8C0B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98C-9562-4197-9140-5179C6E6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1540-7238-4F23-B3F5-449D656C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6EB0-28FA-4E29-AB2D-3D90DB6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518D-CC22-4BA7-948D-70AF7F6C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6BDA-BF34-44EE-AF26-62B9A62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B844-1B4C-446B-86A7-7B6E330E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E772-D66F-4957-AE42-53F3842F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C938-5E76-4F54-8EC9-C0356F5C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9B965-761B-4208-956A-D246ED52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FA6B-717F-442F-AEB2-9AD9A94A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B96E-7675-467E-AD36-E2276739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EE2-C821-402A-BE10-564BD91B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BF07-A877-4D46-8B2C-8924D03D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2104-6C8C-48FF-AFB4-2089BB49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EEFC-D56C-42D1-8B33-84750EA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F858C-BB30-4B42-BE54-E896C1D9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98F1-B7DB-404B-A7A4-BB51C9C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50244-DB32-4416-BE71-0523566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0F2AB-7892-48A4-8F11-6C2AC211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D1BCE-7576-40F1-A071-14E08084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94537-0343-4D56-8FA6-17C35E8E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9D1DE-B055-49A2-8A0B-B117CAB5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4BE-6722-45DD-8A46-BD273E05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9732A-F687-4E2F-B0C1-13794F8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95E78-8F00-4503-A8B6-6ED59AAE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4271-3C32-4AB2-9F60-7F3DBF43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12D3-FE4A-40D1-96EE-4B8F04DC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42E72-675C-4178-A810-25B93058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A299-A074-4CD1-A1FB-248E1D3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ECA6-A5BF-4245-BEC1-E87BA8EC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377E1-3F44-4F8E-9EDB-FCD56A7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6822-EFE0-4291-821C-BDB228F5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4AC68-1AE3-47F1-833B-5701BC64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8C5-F274-4DB6-9C69-420BDABF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85386-E368-4C6D-A7EA-6DD18241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2BD34-D5CA-4BB1-BEDB-C07BA284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2C0AC-986A-46AF-8005-7FD65EF5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45862-A213-4502-8C53-B0EBE220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907E5-CC17-49A3-8D99-7B6DEB6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0A82F-976D-4296-9710-BB97453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8FB58-15C8-45DC-9EFF-3826F094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DF0CF-AF61-4C29-92E3-5DF5C155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21C35-26D3-4D9A-9EC7-A00414B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09A0C-4D0A-4477-9F91-9865C667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FC0-0D1E-4C6D-8E32-4BA23181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7C504-3D58-43BD-8CEC-BDB6445D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F0BC9-32C6-4358-9527-5B81ED4A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692D-83B6-4160-8889-D6B3989B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EBD-36C3-4CC9-A750-90B5EDE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876-99D0-483B-8A80-6576C33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9814-558A-45A4-A404-32BD87E4242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F8F-BDCA-4AAD-AC6C-0E359A11FAD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9D3E-7EBC-4623-A3B5-EDA9FB3793E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7509-1F7C-43FA-A1B1-5B291757BA72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5B0C-B2B5-4210-A468-9A3B2F0F8F9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B576-3A70-4699-9965-1F8C4390FFC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F510-7FB4-4199-A0A8-00AD495902B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F470-A2BA-48BF-BA1A-704146C692E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53A-03C9-477D-AD5C-B716E96612C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275B-C080-427F-8D57-AA9795EAC3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6B73-9DEA-49D5-BBD5-E6FF3CAB062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66F-B853-4CFD-AB26-E71A558901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n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l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79440"/>
            <a:ext cx="10801440" cy="52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0174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3480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334800" y="1346040"/>
            <a:ext cx="1080144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07880" y="646416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07880" y="1557360"/>
            <a:ext cx="1094436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17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334800" y="1628640"/>
            <a:ext cx="10801440" cy="48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34800" y="64659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339840" y="1341360"/>
            <a:ext cx="1086948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334800" y="1413000"/>
            <a:ext cx="1080144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334800" y="1343160"/>
            <a:ext cx="1079352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6, Maio/2017 e Junho/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9520" y="1052640"/>
            <a:ext cx="1065672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334800" y="1125360"/>
            <a:ext cx="108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e dezembro de 2007 e junho de 2017, a quantidade de benefícios previdenciários e acidentários emitidos pela Previdência aumentou 33,3%, passando de 22,1 milhões para 29,4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7 a 2016 (dezembro), 2017 (Jun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34800" y="644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07880" y="1582560"/>
            <a:ext cx="10728360" cy="50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0 a 2017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2682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43,81, na média de janeiro a junho de 2017, o que representou um crescimento de 11,2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+11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V="1">
            <a:off x="2567160" y="5229000"/>
            <a:ext cx="399564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600" y="2997360"/>
            <a:ext cx="2879640" cy="209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62040" y="6343560"/>
            <a:ext cx="861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192240" y="1728720"/>
            <a:ext cx="108010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34800" y="6334200"/>
            <a:ext cx="1080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s: DATAPREV, SUB, SINTESE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.: A existência de benefícios com valores inferiores ao salário mínimo deve-se ao desmembramento de pensões e ao pagamento de benefícios como o salário-família, 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Cerca de 68,0% dos benefícios pagos pelo INSS em Junho/2017 possuíam o valor de até um salário mínimo, o que representa um contingente de 23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9520" y="1341360"/>
            <a:ext cx="10801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Junho/2016, Maio/2017 e Junho/2017, Acumulado Janeiro a Junh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85640" y="648972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365040" y="1176480"/>
            <a:ext cx="107712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09 a 2017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Junho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34800" y="63086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334800" y="1125360"/>
            <a:ext cx="1080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08504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52440" y="1413000"/>
            <a:ext cx="107838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10801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080144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8-04T21:08:50Z</cp:lastPrinted>
  <dcterms:modified xsi:type="dcterms:W3CDTF">2017-08-04T21:15:10Z</dcterms:modified>
  <cp:revision>426</cp:revision>
  <dc:subject/>
  <dc:title>Demografia</dc:title>
</cp:coreProperties>
</file>